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zapbig0g.wav" ContentType="audio/x-wav"/>
  <Override PartName="/ppt/media/image6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47.wmf" ContentType="image/x-wmf"/>
  <Override PartName="/ppt/media/image10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3.wmf" ContentType="image/x-wmf"/>
  <Override PartName="/ppt/media/zapvib04.wav" ContentType="audio/x-wav"/>
  <Override PartName="/ppt/media/image55.wmf" ContentType="image/x-wmf"/>
  <Override PartName="/ppt/media/image20.wmf" ContentType="image/x-wmf"/>
  <Override PartName="/ppt/media/image57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22.wmf" ContentType="image/x-wmf"/>
  <Override PartName="/ppt/media/image59.wmf" ContentType="image/x-wmf"/>
  <Override PartName="/ppt/media/image73.wmf" ContentType="image/x-wmf"/>
  <Override PartName="/ppt/media/image61.wmf" ContentType="image/x-wmf"/>
  <Override PartName="/ppt/media/image72.wmf" ContentType="image/x-wmf"/>
  <Override PartName="/ppt/media/image60.wmf" ContentType="image/x-wmf"/>
  <Override PartName="/ppt/media/image71.wmf" ContentType="image/x-wmf"/>
  <Override PartName="/ppt/media/WHOOSH.WAV" ContentType="audio/x-wav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67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jetflyby2.wav" ContentType="audio/x-wav"/>
  <Override PartName="/ppt/media/image1.jpeg" ContentType="image/jpeg"/>
  <Override PartName="/ppt/media/image50.wmf" ContentType="image/x-wmf"/>
  <Override PartName="/ppt/media/image34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image4.wmf" ContentType="image/x-wmf"/>
  <Override PartName="/ppt/media/image16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GUNSHOT.WAV" ContentType="audio/x-wav"/>
  <Override PartName="/ppt/media/highchime.wav" ContentType="audio/x-wav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AD2-62DB-4563-8717-82FA031C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577-03F1-476B-88C4-A4B9A22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D78-5129-4A2C-9602-EA0AAE46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DA4-225D-42A6-8922-B7513667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6AB-0C1F-4A08-BE7F-5C3B3EB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1F1-AB70-4AE3-AE3D-26EDD3E9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CBB-DDEC-4282-AC12-9498D59A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42F-52EA-475E-8BF7-CA853A6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775-162C-4044-9F08-DEB9783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456-AB11-4C73-A9CB-34C7319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C92-426A-4571-90F4-1C3E144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170-B442-4FBF-AF9F-3C6B23BB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CC2-253F-4D3A-8B18-205C3BE12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GUNSHOT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zapvib04.wav"/><Relationship Id="rId17" Type="http://schemas.openxmlformats.org/officeDocument/2006/relationships/audio" Target="../media/LASER.WAV"/><Relationship Id="rId18" Type="http://schemas.openxmlformats.org/officeDocument/2006/relationships/audio" Target="../media/zapvib04.wav"/><Relationship Id="rId19" Type="http://schemas.openxmlformats.org/officeDocument/2006/relationships/audio" Target="../media/LASER.WAV"/><Relationship Id="rId20" Type="http://schemas.openxmlformats.org/officeDocument/2006/relationships/audio" Target="../media/zapvib04.wav"/><Relationship Id="rId21" Type="http://schemas.openxmlformats.org/officeDocument/2006/relationships/audio" Target="../media/LASER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2.wmf"/><Relationship Id="rId53" Type="http://schemas.openxmlformats.org/officeDocument/2006/relationships/audio" Target="../media/hzipup01.wav"/><Relationship Id="rId54" Type="http://schemas.openxmlformats.org/officeDocument/2006/relationships/audio" Target="../media/highchime.wav"/><Relationship Id="rId55" Type="http://schemas.openxmlformats.org/officeDocument/2006/relationships/audio" Target="../media/LASER.WAV"/><Relationship Id="rId56" Type="http://schemas.openxmlformats.org/officeDocument/2006/relationships/audio" Target="../media/hzipup01.wav"/><Relationship Id="rId57" Type="http://schemas.openxmlformats.org/officeDocument/2006/relationships/audio" Target="../media/hzipup01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hzipup01.wav"/><Relationship Id="rId65" Type="http://schemas.openxmlformats.org/officeDocument/2006/relationships/audio" Target="../media/hzipup01.wav"/><Relationship Id="rId66" Type="http://schemas.openxmlformats.org/officeDocument/2006/relationships/audio" Target="../media/LASER.WAV"/><Relationship Id="rId67" Type="http://schemas.openxmlformats.org/officeDocument/2006/relationships/audio" Target="../media/LASER.WAV"/><Relationship Id="rId68" Type="http://schemas.openxmlformats.org/officeDocument/2006/relationships/audio" Target="../media/hzipup01.wav"/><Relationship Id="rId69" Type="http://schemas.openxmlformats.org/officeDocument/2006/relationships/audio" Target="../media/hzipup01.wav"/><Relationship Id="rId70" Type="http://schemas.openxmlformats.org/officeDocument/2006/relationships/audio" Target="../media/zapbig0g.wav"/><Relationship Id="rId71" Type="http://schemas.openxmlformats.org/officeDocument/2006/relationships/audio" Target="../media/LASER.WAV"/><Relationship Id="rId72" Type="http://schemas.openxmlformats.org/officeDocument/2006/relationships/audio" Target="../media/hzipup01.wav"/><Relationship Id="rId73" Type="http://schemas.openxmlformats.org/officeDocument/2006/relationships/audio" Target="../media/hzipup01.wav"/><Relationship Id="rId74" Type="http://schemas.openxmlformats.org/officeDocument/2006/relationships/audio" Target="../media/zapbig0g.wav"/><Relationship Id="rId75" Type="http://schemas.openxmlformats.org/officeDocument/2006/relationships/audio" Target="../media/LASER.WAV"/><Relationship Id="rId76" Type="http://schemas.openxmlformats.org/officeDocument/2006/relationships/audio" Target="../media/hzipup01.wav"/><Relationship Id="rId77" Type="http://schemas.openxmlformats.org/officeDocument/2006/relationships/audio" Target="../media/hzipup01.wav"/><Relationship Id="rId78" Type="http://schemas.openxmlformats.org/officeDocument/2006/relationships/audio" Target="../media/LASER.WAV"/><Relationship Id="rId7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7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wmf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3.wmf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5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5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60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1.wmf"/><Relationship Id="rId4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73.wmf"/><Relationship Id="rId4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676520"/>
            <a:ext cx="5181480" cy="2928240"/>
            <a:chOff x="304920" y="1676520"/>
            <a:chExt cx="5181480" cy="2928240"/>
          </a:xfrm>
        </p:grpSpPr>
        <p:sp>
          <p:nvSpPr>
            <p:cNvPr id="44" name=""/>
            <p:cNvSpPr/>
            <p:nvPr/>
          </p:nvSpPr>
          <p:spPr>
            <a:xfrm>
              <a:off x="762120" y="2057040"/>
              <a:ext cx="4267080" cy="213336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52880" y="38858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1676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9621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038480" y="1523880"/>
            <a:ext cx="4876920" cy="4324320"/>
            <a:chOff x="4038480" y="1523880"/>
            <a:chExt cx="4876920" cy="4324320"/>
          </a:xfrm>
        </p:grpSpPr>
        <p:grpSp>
          <p:nvGrpSpPr>
            <p:cNvPr id="49" name=""/>
            <p:cNvGrpSpPr/>
            <p:nvPr/>
          </p:nvGrpSpPr>
          <p:grpSpPr>
            <a:xfrm>
              <a:off x="5181480" y="2133720"/>
              <a:ext cx="3657600" cy="3714480"/>
              <a:chOff x="5181480" y="2133720"/>
              <a:chExt cx="3657600" cy="37144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360" y="2286000"/>
                <a:ext cx="2952720" cy="35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5181480" y="213372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 txBox="1"/>
            <p:nvPr/>
          </p:nvSpPr>
          <p:spPr>
            <a:xfrm>
              <a:off x="4038480" y="1523880"/>
              <a:ext cx="4876920" cy="96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99"/>
                  </a:solidFill>
                  <a:latin typeface="Arial Black"/>
                </a:rPr>
                <a:t>SOHCAHTOA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0120" y="1219320"/>
          <a:ext cx="91116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21932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304920" y="1143000"/>
            <a:ext cx="5181480" cy="2928600"/>
            <a:chOff x="304920" y="1143000"/>
            <a:chExt cx="5181480" cy="2928600"/>
          </a:xfrm>
        </p:grpSpPr>
        <p:sp>
          <p:nvSpPr>
            <p:cNvPr id="58" name=""/>
            <p:cNvSpPr/>
            <p:nvPr/>
          </p:nvSpPr>
          <p:spPr>
            <a:xfrm>
              <a:off x="762120" y="1523880"/>
              <a:ext cx="4267080" cy="2133720"/>
            </a:xfrm>
            <a:prstGeom prst="rtTriangl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2880" y="3352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920" y="1143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920" y="34290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80880" y="1523880"/>
            <a:ext cx="533160" cy="2133720"/>
            <a:chOff x="380880" y="1523880"/>
            <a:chExt cx="533160" cy="2133720"/>
          </a:xfrm>
        </p:grpSpPr>
        <p:sp>
          <p:nvSpPr>
            <p:cNvPr id="63" name=""/>
            <p:cNvSpPr/>
            <p:nvPr/>
          </p:nvSpPr>
          <p:spPr>
            <a:xfrm>
              <a:off x="761760" y="1523880"/>
              <a:ext cx="0" cy="2133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880" y="23623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3581280"/>
            <a:ext cx="4267080" cy="581400"/>
            <a:chOff x="762120" y="3581280"/>
            <a:chExt cx="4267080" cy="581400"/>
          </a:xfrm>
        </p:grpSpPr>
        <p:sp>
          <p:nvSpPr>
            <p:cNvPr id="66" name=""/>
            <p:cNvSpPr/>
            <p:nvPr/>
          </p:nvSpPr>
          <p:spPr>
            <a:xfrm>
              <a:off x="762120" y="365760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6232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62120" y="1523880"/>
            <a:ext cx="4267080" cy="2133720"/>
            <a:chOff x="762120" y="1523880"/>
            <a:chExt cx="4267080" cy="2133720"/>
          </a:xfrm>
        </p:grpSpPr>
        <p:sp>
          <p:nvSpPr>
            <p:cNvPr id="69" name=""/>
            <p:cNvSpPr/>
            <p:nvPr/>
          </p:nvSpPr>
          <p:spPr>
            <a:xfrm>
              <a:off x="762120" y="1523880"/>
              <a:ext cx="426708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1981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6172200" y="4114800"/>
          <a:ext cx="91116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11480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562720" y="5505480"/>
          <a:ext cx="91116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5505480"/>
                    <a:ext cx="91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5562720" y="2971800"/>
            <a:ext cx="32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OHCAHTO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60160" y="1219320"/>
            <a:ext cx="4294800" cy="2729520"/>
            <a:chOff x="3260160" y="1219320"/>
            <a:chExt cx="4294800" cy="2729520"/>
          </a:xfrm>
        </p:grpSpPr>
        <p:grpSp>
          <p:nvGrpSpPr>
            <p:cNvPr id="77" name=""/>
            <p:cNvGrpSpPr/>
            <p:nvPr/>
          </p:nvGrpSpPr>
          <p:grpSpPr>
            <a:xfrm>
              <a:off x="3260160" y="1219320"/>
              <a:ext cx="4294800" cy="2729520"/>
              <a:chOff x="3260160" y="1219320"/>
              <a:chExt cx="4294800" cy="2729520"/>
            </a:xfrm>
          </p:grpSpPr>
          <p:graphicFrame>
            <p:nvGraphicFramePr>
              <p:cNvPr id="78" name=""/>
              <p:cNvGraphicFramePr/>
              <p:nvPr/>
            </p:nvGraphicFramePr>
            <p:xfrm>
              <a:off x="3276720" y="1219320"/>
              <a:ext cx="4278240" cy="1444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76720" y="1219320"/>
                        <a:ext cx="4278240" cy="144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0" name=""/>
              <p:cNvSpPr/>
              <p:nvPr/>
            </p:nvSpPr>
            <p:spPr>
              <a:xfrm flipV="1" rot="8400000">
                <a:off x="3446640" y="2847960"/>
                <a:ext cx="9136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 txBox="1"/>
            <p:nvPr/>
          </p:nvSpPr>
          <p:spPr>
            <a:xfrm>
              <a:off x="5562720" y="2971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cc"/>
                  </a:solidFill>
                  <a:latin typeface="Arial Black"/>
                </a:rPr>
                <a:t>S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28800" y="2971800"/>
            <a:ext cx="5886360" cy="2587680"/>
            <a:chOff x="1828800" y="2971800"/>
            <a:chExt cx="5886360" cy="2587680"/>
          </a:xfrm>
        </p:grpSpPr>
        <p:graphicFrame>
          <p:nvGraphicFramePr>
            <p:cNvPr id="83" name=""/>
            <p:cNvGraphicFramePr/>
            <p:nvPr/>
          </p:nvGraphicFramePr>
          <p:xfrm>
            <a:off x="1828800" y="4114800"/>
            <a:ext cx="4365720" cy="1444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28800" y="4114800"/>
                      <a:ext cx="436572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"/>
            <p:cNvSpPr txBox="1"/>
            <p:nvPr/>
          </p:nvSpPr>
          <p:spPr>
            <a:xfrm>
              <a:off x="6705720" y="2971800"/>
              <a:ext cx="10094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9900"/>
                  </a:solidFill>
                  <a:latin typeface="Arial Black"/>
                </a:rPr>
                <a:t>CA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828800" y="2971800"/>
            <a:ext cx="7010280" cy="3886200"/>
            <a:chOff x="1828800" y="2971800"/>
            <a:chExt cx="7010280" cy="3886200"/>
          </a:xfrm>
        </p:grpSpPr>
        <p:graphicFrame>
          <p:nvGraphicFramePr>
            <p:cNvPr id="87" name=""/>
            <p:cNvGraphicFramePr/>
            <p:nvPr/>
          </p:nvGraphicFramePr>
          <p:xfrm>
            <a:off x="1828800" y="5413320"/>
            <a:ext cx="3711600" cy="1444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828800" y="5413320"/>
                      <a:ext cx="371160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 txBox="1"/>
            <p:nvPr/>
          </p:nvSpPr>
          <p:spPr>
            <a:xfrm>
              <a:off x="7772400" y="2971800"/>
              <a:ext cx="10666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 Black"/>
                </a:rPr>
                <a:t>TO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93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" name=""/>
          <p:cNvGrpSpPr/>
          <p:nvPr/>
        </p:nvGrpSpPr>
        <p:grpSpPr>
          <a:xfrm>
            <a:off x="228600" y="1752480"/>
            <a:ext cx="4191120" cy="2730600"/>
            <a:chOff x="228600" y="1752480"/>
            <a:chExt cx="4191120" cy="2730600"/>
          </a:xfrm>
        </p:grpSpPr>
        <p:sp>
          <p:nvSpPr>
            <p:cNvPr id="99" name=""/>
            <p:cNvSpPr/>
            <p:nvPr/>
          </p:nvSpPr>
          <p:spPr>
            <a:xfrm>
              <a:off x="1066680" y="2209680"/>
              <a:ext cx="2819520" cy="1828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38098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6200" y="3886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7400" y="3962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2666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413920" y="1676520"/>
          <a:ext cx="712440" cy="106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13920" y="1676520"/>
                    <a:ext cx="7124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447040" y="2743200"/>
          <a:ext cx="679320" cy="1058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447040" y="2743200"/>
                    <a:ext cx="67932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429760" y="3809880"/>
          <a:ext cx="71424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429760" y="3809880"/>
                    <a:ext cx="7142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018640" y="4419720"/>
          <a:ext cx="30312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018640" y="4419720"/>
                    <a:ext cx="3031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343400" y="4495680"/>
          <a:ext cx="712800" cy="10605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343400" y="4495680"/>
                    <a:ext cx="7128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282920" y="5726160"/>
          <a:ext cx="714600" cy="10587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282920" y="5726160"/>
                    <a:ext cx="7146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99120" y="4952880"/>
          <a:ext cx="2871720" cy="1131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1991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310600" y="4952880"/>
          <a:ext cx="952560" cy="1059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831060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924680" y="5799240"/>
          <a:ext cx="714600" cy="10587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7924680" y="5799240"/>
                    <a:ext cx="7146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8796240" y="5562720"/>
          <a:ext cx="303480" cy="4078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796240" y="5562720"/>
                    <a:ext cx="3034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158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3" name=""/>
          <p:cNvGrpSpPr/>
          <p:nvPr/>
        </p:nvGrpSpPr>
        <p:grpSpPr>
          <a:xfrm>
            <a:off x="0" y="1752480"/>
            <a:ext cx="4038480" cy="2197080"/>
            <a:chOff x="0" y="1752480"/>
            <a:chExt cx="4038480" cy="2197080"/>
          </a:xfrm>
        </p:grpSpPr>
        <p:sp>
          <p:nvSpPr>
            <p:cNvPr id="164" name=""/>
            <p:cNvSpPr/>
            <p:nvPr/>
          </p:nvSpPr>
          <p:spPr>
            <a:xfrm>
              <a:off x="838080" y="2209680"/>
              <a:ext cx="2819520" cy="129564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32767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59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3429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372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8001000" y="4419720"/>
          <a:ext cx="33804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419720"/>
                    <a:ext cx="338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05520" y="495288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7962840" y="4952880"/>
          <a:ext cx="952560" cy="1059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8329680" y="5562720"/>
          <a:ext cx="542880" cy="407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29680" y="5562720"/>
                    <a:ext cx="542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1219320"/>
            <a:ext cx="8839080" cy="550800"/>
            <a:chOff x="304920" y="1219320"/>
            <a:chExt cx="8839080" cy="550800"/>
          </a:xfrm>
        </p:grpSpPr>
        <p:sp>
          <p:nvSpPr>
            <p:cNvPr id="211" name=""/>
            <p:cNvSpPr/>
            <p:nvPr/>
          </p:nvSpPr>
          <p:spPr>
            <a:xfrm>
              <a:off x="304920" y="121932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"/>
            <p:cNvGraphicFramePr/>
            <p:nvPr/>
          </p:nvGraphicFramePr>
          <p:xfrm>
            <a:off x="6248520" y="129528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7620120" y="129528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129528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6" name=""/>
          <p:cNvGrpSpPr/>
          <p:nvPr/>
        </p:nvGrpSpPr>
        <p:grpSpPr>
          <a:xfrm>
            <a:off x="0" y="1752480"/>
            <a:ext cx="4038480" cy="1587600"/>
            <a:chOff x="0" y="1752480"/>
            <a:chExt cx="4038480" cy="1587600"/>
          </a:xfrm>
        </p:grpSpPr>
        <p:sp>
          <p:nvSpPr>
            <p:cNvPr id="217" name=""/>
            <p:cNvSpPr/>
            <p:nvPr/>
          </p:nvSpPr>
          <p:spPr>
            <a:xfrm>
              <a:off x="838080" y="2209680"/>
              <a:ext cx="2819520" cy="685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1828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28195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20" y="2286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8195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33720" y="20574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" name=""/>
          <p:cNvGraphicFramePr/>
          <p:nvPr/>
        </p:nvGraphicFramePr>
        <p:xfrm>
          <a:off x="4070520" y="167652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146480" y="274320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74320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7423200" y="1676520"/>
          <a:ext cx="954000" cy="105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676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804080" y="228600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22860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532640" y="274320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913520" y="3352680"/>
          <a:ext cx="513000" cy="408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335268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403880" y="380988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80988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532640" y="3809880"/>
          <a:ext cx="952560" cy="105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809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8001000" y="4419720"/>
          <a:ext cx="33804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419720"/>
                    <a:ext cx="338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7640" y="449568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49568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352680" y="4495680"/>
          <a:ext cx="954360" cy="105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495680"/>
                    <a:ext cx="9543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33920" y="5105520"/>
          <a:ext cx="512640" cy="407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51055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7640" y="572616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72616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86160" y="572616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72616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767040" y="6335640"/>
          <a:ext cx="513000" cy="408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6335640"/>
                    <a:ext cx="5130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105520" y="495288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95288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962840" y="4952880"/>
          <a:ext cx="952560" cy="10591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952880"/>
                    <a:ext cx="95256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8344080" y="5562720"/>
          <a:ext cx="512640" cy="407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44080" y="556272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962520" y="1676520"/>
          <a:ext cx="335268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4419720"/>
          <a:ext cx="342108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41972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334120" y="2819520"/>
          <a:ext cx="954000" cy="105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8195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715000" y="3429000"/>
          <a:ext cx="512640" cy="4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42900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733920" y="3962520"/>
          <a:ext cx="8157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3962520"/>
                    <a:ext cx="815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676520" y="5562720"/>
          <a:ext cx="95256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5627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057400" y="6172200"/>
          <a:ext cx="512640" cy="40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6172200"/>
                    <a:ext cx="512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0" y="1676520"/>
            <a:ext cx="3733920" cy="2577960"/>
            <a:chOff x="0" y="1676520"/>
            <a:chExt cx="3733920" cy="2577960"/>
          </a:xfrm>
        </p:grpSpPr>
        <p:sp>
          <p:nvSpPr>
            <p:cNvPr id="279" name=""/>
            <p:cNvSpPr/>
            <p:nvPr/>
          </p:nvSpPr>
          <p:spPr>
            <a:xfrm flipH="1">
              <a:off x="304200" y="1981080"/>
              <a:ext cx="2819160" cy="182880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3733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48120" y="36576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24080" y="2666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52480" y="37339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932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90720" y="327672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95120" y="3581280"/>
              <a:ext cx="22860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95480" y="3581280"/>
              <a:ext cx="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0" name=""/>
          <p:cNvGraphicFramePr/>
          <p:nvPr/>
        </p:nvGraphicFramePr>
        <p:xfrm>
          <a:off x="4114800" y="3048120"/>
          <a:ext cx="1265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048120"/>
                    <a:ext cx="1265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191120" y="4038480"/>
          <a:ext cx="1230120" cy="408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1120" y="4038480"/>
                    <a:ext cx="12301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486400" y="3733920"/>
          <a:ext cx="954000" cy="105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3733920"/>
                    <a:ext cx="954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867280" y="4343400"/>
          <a:ext cx="513000" cy="407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43434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095880" y="3962520"/>
          <a:ext cx="816120" cy="647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5880" y="396252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629400" y="3124080"/>
          <a:ext cx="2286000" cy="559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629400" y="3124080"/>
                    <a:ext cx="2286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880" y="5715000"/>
          <a:ext cx="1330560" cy="514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0880" y="5715000"/>
                    <a:ext cx="1330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962520" y="5867280"/>
          <a:ext cx="1231920" cy="408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962520" y="5867280"/>
                    <a:ext cx="1231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257800" y="556272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257800" y="55627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638680" y="6172200"/>
          <a:ext cx="51300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638680" y="61722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505320" y="5791320"/>
          <a:ext cx="815760" cy="647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05320" y="5791320"/>
                    <a:ext cx="815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5867280" y="5791320"/>
          <a:ext cx="816120" cy="647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79132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927840" y="5614920"/>
          <a:ext cx="2144880" cy="606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27840" y="5614920"/>
                    <a:ext cx="21448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181480" y="1676520"/>
          <a:ext cx="338796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76520"/>
                    <a:ext cx="33879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7354800" y="2743200"/>
          <a:ext cx="9525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7840800" y="3352680"/>
          <a:ext cx="333360" cy="37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0" y="3352680"/>
                    <a:ext cx="3333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0" y="1676520"/>
            <a:ext cx="3733920" cy="1968120"/>
            <a:chOff x="0" y="1676520"/>
            <a:chExt cx="3733920" cy="1968120"/>
          </a:xfrm>
        </p:grpSpPr>
        <p:sp>
          <p:nvSpPr>
            <p:cNvPr id="326" name=""/>
            <p:cNvSpPr/>
            <p:nvPr/>
          </p:nvSpPr>
          <p:spPr>
            <a:xfrm flipH="1">
              <a:off x="304200" y="1981080"/>
              <a:ext cx="2819160" cy="121932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3124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481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240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52480" y="3124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160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14600" y="213372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7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895120" y="2971800"/>
              <a:ext cx="228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95480" y="2971800"/>
              <a:ext cx="180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6059520" y="2895480"/>
          <a:ext cx="133020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2895480"/>
                    <a:ext cx="1330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122880" y="4038480"/>
          <a:ext cx="1231920" cy="40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2880" y="4038480"/>
                    <a:ext cx="1231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7418520" y="3733920"/>
          <a:ext cx="9522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8520" y="3733920"/>
                    <a:ext cx="9522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904160" y="4343400"/>
          <a:ext cx="3333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04160" y="4343400"/>
                    <a:ext cx="333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765760" y="3886200"/>
          <a:ext cx="6876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65760" y="3886200"/>
                    <a:ext cx="68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8128080" y="3886200"/>
          <a:ext cx="68724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8080" y="3886200"/>
                    <a:ext cx="687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075360" y="4648320"/>
          <a:ext cx="2514600" cy="476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5360" y="4648320"/>
                    <a:ext cx="2514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6075360" y="5105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227640" y="5105520"/>
          <a:ext cx="139248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27640" y="5105520"/>
                    <a:ext cx="1392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751880" y="5105520"/>
          <a:ext cx="139212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51880" y="5105520"/>
                    <a:ext cx="1392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456240" y="5638680"/>
          <a:ext cx="2097360" cy="54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56240" y="5638680"/>
                    <a:ext cx="2097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533520" y="3505320"/>
          <a:ext cx="2873160" cy="11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3520" y="3505320"/>
                    <a:ext cx="28731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33520" y="4724280"/>
          <a:ext cx="1295280" cy="514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520" y="4724280"/>
                    <a:ext cx="129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676520" y="4495680"/>
          <a:ext cx="961920" cy="119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76520" y="4495680"/>
                    <a:ext cx="9619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057400" y="5181480"/>
          <a:ext cx="536400" cy="462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057400" y="5181480"/>
                    <a:ext cx="53640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57200" y="6019920"/>
          <a:ext cx="1349280" cy="461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" y="6019920"/>
                    <a:ext cx="1349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1752480" y="5659560"/>
          <a:ext cx="962280" cy="119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52480" y="5659560"/>
                    <a:ext cx="9622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133720" y="6345360"/>
          <a:ext cx="536400" cy="461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33720" y="6345360"/>
                    <a:ext cx="536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7640" y="5943600"/>
          <a:ext cx="780840" cy="647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7640" y="5943600"/>
                    <a:ext cx="780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379600" y="5943600"/>
          <a:ext cx="781200" cy="64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79600" y="5943600"/>
                    <a:ext cx="781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3227400" y="5867280"/>
          <a:ext cx="2243160" cy="6066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227400" y="5867280"/>
                    <a:ext cx="2243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1430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ssing lengths of the sides of the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164200" y="1676520"/>
          <a:ext cx="3422520" cy="11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4200" y="1676520"/>
                    <a:ext cx="34225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354800" y="2743200"/>
          <a:ext cx="9525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27432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840800" y="3352680"/>
          <a:ext cx="333360" cy="37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0" y="3352680"/>
                    <a:ext cx="3333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8" name=""/>
          <p:cNvGrpSpPr/>
          <p:nvPr/>
        </p:nvGrpSpPr>
        <p:grpSpPr>
          <a:xfrm>
            <a:off x="0" y="1676520"/>
            <a:ext cx="3733920" cy="1968120"/>
            <a:chOff x="0" y="1676520"/>
            <a:chExt cx="3733920" cy="1968120"/>
          </a:xfrm>
        </p:grpSpPr>
        <p:sp>
          <p:nvSpPr>
            <p:cNvPr id="389" name=""/>
            <p:cNvSpPr/>
            <p:nvPr/>
          </p:nvSpPr>
          <p:spPr>
            <a:xfrm flipH="1">
              <a:off x="304200" y="1981080"/>
              <a:ext cx="2819160" cy="121932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3124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4080" y="16765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48120" y="3048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24080" y="228600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2480" y="3124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21337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860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2743200"/>
              <a:ext cx="838080" cy="52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20</a:t>
              </a:r>
              <a:r>
                <a:rPr b="1" lang="en-US" sz="2400" spc="-1" strike="noStrike" baseline="60000">
                  <a:solidFill>
                    <a:srgbClr val="80008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895120" y="2971800"/>
              <a:ext cx="228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95480" y="2971800"/>
              <a:ext cx="1800" cy="2286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0" name=""/>
          <p:cNvGraphicFramePr/>
          <p:nvPr/>
        </p:nvGraphicFramePr>
        <p:xfrm>
          <a:off x="6059520" y="2895480"/>
          <a:ext cx="133020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2895480"/>
                    <a:ext cx="1330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6105600" y="4038480"/>
          <a:ext cx="1266840" cy="40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05600" y="4038480"/>
                    <a:ext cx="12668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7418520" y="3733920"/>
          <a:ext cx="952200" cy="105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8520" y="3733920"/>
                    <a:ext cx="9522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7904160" y="4343400"/>
          <a:ext cx="3333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04160" y="4343400"/>
                    <a:ext cx="333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765760" y="3886200"/>
          <a:ext cx="6876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65760" y="3886200"/>
                    <a:ext cx="687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8128080" y="3886200"/>
          <a:ext cx="68724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128080" y="3886200"/>
                    <a:ext cx="6872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6058080" y="4648320"/>
          <a:ext cx="2549520" cy="476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58080" y="4648320"/>
                    <a:ext cx="25495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6075360" y="5105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056440" y="5105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205680" y="5105520"/>
          <a:ext cx="14364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05680" y="5105520"/>
                    <a:ext cx="14364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7729560" y="5105520"/>
          <a:ext cx="143676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29560" y="5105520"/>
                    <a:ext cx="1436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6454800" y="5638680"/>
          <a:ext cx="2098800" cy="54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54800" y="5638680"/>
                    <a:ext cx="2098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15880" y="3505320"/>
          <a:ext cx="2908440" cy="11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5880" y="3505320"/>
                    <a:ext cx="29084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533520" y="4724280"/>
          <a:ext cx="1295280" cy="514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3520" y="4724280"/>
                    <a:ext cx="1295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1676520" y="4495680"/>
          <a:ext cx="961920" cy="1198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76520" y="4495680"/>
                    <a:ext cx="96192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036880" y="5181480"/>
          <a:ext cx="579240" cy="462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036880" y="5181480"/>
                    <a:ext cx="57924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57200" y="6019920"/>
          <a:ext cx="1349280" cy="461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57200" y="6019920"/>
                    <a:ext cx="1349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752480" y="5659560"/>
          <a:ext cx="962280" cy="119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752480" y="5659560"/>
                    <a:ext cx="9622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112840" y="6345360"/>
          <a:ext cx="579600" cy="461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112840" y="6345360"/>
                    <a:ext cx="5796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0" y="5943600"/>
          <a:ext cx="816120" cy="647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0" y="5943600"/>
                    <a:ext cx="816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363760" y="5943600"/>
          <a:ext cx="814320" cy="647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63760" y="5943600"/>
                    <a:ext cx="814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571920" y="5891040"/>
          <a:ext cx="1957320" cy="5590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571920" y="5891040"/>
                    <a:ext cx="19573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igonometric 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9:56:35Z</dcterms:modified>
  <cp:revision>83</cp:revision>
  <dc:subject/>
  <dc:title>No Slide Title</dc:title>
</cp:coreProperties>
</file>